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5A3-CA2D-4737-AAC6-D06A7C13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634-3F44-4E1D-9D95-DAF5BD96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045-ED72-4C99-BFFC-488C05D8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315-223E-47C6-9779-1181A767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F4EA-183A-4975-B16D-B64AFE40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3457-FF51-4BC9-9F8E-D03B80A1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3B81-1396-43F7-BF72-D115A241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4A2F-B51F-4DAD-BBAE-D8E70911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50C3-A1B6-420F-A92E-67F57A99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B9B9-8BC2-4453-B7AC-F793C22A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14A4-B067-4887-A850-330E6986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925-2ECE-4680-8ECD-68E5FDE6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191F-913D-4141-801E-1265047D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7AEF-16F7-4435-A4DC-152C7292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E461-C6F8-4168-9678-923C7553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CE0F-E3A5-421C-8736-E80CBDD2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D174-A2FA-46FC-BCF6-F28F0389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45E-740E-4158-A67B-60025802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33C-DF53-450A-B1D6-861F996E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8F6-6AF8-4A2D-AA03-F3F98EBF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73F-A1AC-4799-AE8C-1D8BE396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395-F4FB-4262-A6CD-B108CA78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BF3-EBE6-431F-8EB4-4C8B52B7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2EC-5997-44EB-A6D5-DA9F8134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1EA6-F17A-46F3-AD1E-2A2C64E83AC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9392-7BE8-4B89-A705-E8BA71F36F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580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1: TSARIS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94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Read pages 8-13 of Malo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Glossary ter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Anti-Semitis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Capitalis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Arbitrarines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Mi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Menshevik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Construct a Family tree of the Russian Tsars from Michael to Nicholas II, note down the key aspects of each reign (only a few sentences for each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Draw a visual representation of the make up of Russian Society in 1905 showing percentages of each class. (Can be a pie chart, a graph, a pyramid, your choice!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Using the extracts A-E from the handout on Government in Russia, write a paragraph outlining what you think the characteristics and ideas of Nicholas II are. Also comment in which extract you think would be most reliable and why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rted as an independent state under the rule of Ivan III, Grand Prince of Moscow (1462-1505), after previously being part of the Mongol Emp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established absolute autocracy, where the Grand Prince was the landowner of all of Russia and God’s representative on ear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van the IV, also called Ivan the terrible was the first ruler to adopt the title of Ts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ablished a ruling partnership with the Orthodox Chur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Orthodox Church controlled the education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ring Ivan’s reign, land was redistributed to those who served in the military or administrative ro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new gentry formed, peasants became indebted to landowners, serving under contracts and paying rent through produce and servi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system grew into serfdom and slave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was Tsarism implemen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divided into thre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mperial Counc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Tsar’s personal advis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binet of Minister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each had a responsibility over a specific de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n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o turned Tsar’s ideas into state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ne share power with the Tsar and are all chosen by the Ts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was Tsarism implemen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rupt bureaucrac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government requires a civil service to put official policies into prac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the Russian bureaucracy was based on undeserved privilege and therefore was ineffic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so autocracy meant the civil service could not develop policies officially and had to randomly interpret how the Tsar’s laws appli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was Tsarism implemen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ppressive Police: divided into two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khrana – Secret Police protected interests of the state (Ts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rmal police maintained law and order using oppressive measures and the fierce Cossac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was Tsarism implemen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ervative Russian Orthodox Chu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ial religion of Rus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inforced autocracy and conservative val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state control since 17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ussia by 191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argest country in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rossed 11 time zones, two continents, 5 vegetation zones,-60 degrees in Winter and lasts for more than half the year, 40 degrees in Summ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161 million people in 1910. Had grown by 40 million in just 13 year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60 different national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cial Struc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ing class: Royal family and members of government - 0.5% of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per class: Highly paid for low worklo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ility, landowners, merchants, church leaders, civil service, Officers in army. 12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dle Class: professionals, intelligentsia, and technical specialists 1.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cial Struc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 working class: Called the proletariat and lived in cities. 4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sants: Mainly subsistence farmers growing crops and livestock for summer only. Lacked knowledge, technology and equipment. The Tsar feared educating the masses. Were easily affected by drought, disease and famine. 82% of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23:01:16Z</dcterms:created>
  <dc:creator>DE&amp;T User</dc:creator>
  <dc:description/>
  <dc:language>en-US</dc:language>
  <cp:lastModifiedBy>Staff</cp:lastModifiedBy>
  <dcterms:modified xsi:type="dcterms:W3CDTF">2009-06-18T00:19:11Z</dcterms:modified>
  <cp:revision>8</cp:revision>
  <dc:subject/>
  <dc:title>1: TSARISM AND ITS OPPONENTS</dc:title>
</cp:coreProperties>
</file>